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E36-198B-4E34-9823-A808D7D6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F7E-FE1D-4068-A9FC-C1567AB3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763-7EBC-4490-8133-95FE762C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5BE-2923-4CE6-976F-C4D91BD3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91D7-AE5B-4B6D-8106-D2858C1F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B46B-CA40-491C-8BCE-9488BB1F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69A8-1A09-4F44-8A6B-3BD9EFE6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E027-737D-408A-BCB1-D57981B1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C5E-5D35-4FF0-8CF1-F655C242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D136-6E90-4338-A586-D559B823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6438-024D-487F-9721-F1B07CE5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2DE-2227-4E1B-9F38-BFE4F6CE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91F4-E250-4ACD-ACF9-676CD44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5549-0018-4DCF-853F-C156F99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9DDE-AD40-4E55-BB96-75A331A5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D596-941D-4E41-A867-0C8F82CD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C39A-D4C4-40C2-B021-56854EA7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B97-6291-44D3-829A-154B5459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469-3B91-4A2C-A757-D752C7FE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78D-770A-4A2E-934A-85F29B70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EE1-FA45-472C-A255-189F6C32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6C7-136D-47A4-8FFB-B6289F9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F32-8308-436A-A73C-33324CCF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99F-C477-4364-9910-33AB14A8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 algn="ctr">
              <a:spcBef>
                <a:spcPts val="100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 algn="ctr">
              <a:spcBef>
                <a:spcPts val="100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88B3-F5E0-4D77-88B8-638584F51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 algn="ctr">
              <a:spcBef>
                <a:spcPts val="100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 algn="ctr">
              <a:spcBef>
                <a:spcPts val="100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1A2E-F908-448A-A3FA-86227BC4423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Clipart/Chemistry&amp;img=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ilpi.com/msds/ref/gifs/statesofmatter.gif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stances, Compounds &amp; Mix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0" y="243828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How everything is put togethe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 Review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ure compound has the same elements and the same amount of elements all of the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ments are chemically combi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und properties are different from the properties of the el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nnot be separated physic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properties such as boiling point or melting point of pure substances do not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ixtur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66720" y="24382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ixture is a combination of two or more substances where there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hemical combination or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http://www.chem4kids.com/files/art/matter_mixture1_2.jpg"/>
          <p:cNvPicPr/>
          <p:nvPr/>
        </p:nvPicPr>
        <p:blipFill>
          <a:blip r:embed="rId1"/>
          <a:stretch/>
        </p:blipFill>
        <p:spPr>
          <a:xfrm>
            <a:off x="457200" y="23623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xtures combine physically in no specific proportion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y just mix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3" descr="C:\Documents and Settings\gbaker\Application Data\Microsoft\Media Catalog\Downloaded Clips\cla2\j0406479.jpg"/>
          <p:cNvPicPr/>
          <p:nvPr/>
        </p:nvPicPr>
        <p:blipFill>
          <a:blip r:embed="rId1"/>
          <a:stretch/>
        </p:blipFill>
        <p:spPr>
          <a:xfrm>
            <a:off x="4952880" y="1905120"/>
            <a:ext cx="331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3716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lids, liquids and gases can be combined to create a mixture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3" descr="C:\Documents and Settings\gbaker\Application Data\Microsoft\Media Catalog\Downloaded Clips\cla3\j0407930.wmf"/>
          <p:cNvPicPr/>
          <p:nvPr/>
        </p:nvPicPr>
        <p:blipFill>
          <a:blip r:embed="rId1"/>
          <a:stretch/>
        </p:blipFill>
        <p:spPr>
          <a:xfrm>
            <a:off x="5715000" y="2819520"/>
            <a:ext cx="27558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ixture Typ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neva"/>
              </a:rPr>
              <a:t>MIXTURES MAY BE </a:t>
            </a:r>
            <a:r>
              <a:rPr b="1" lang="en-US" sz="4000" spc="-1" strike="noStrike">
                <a:solidFill>
                  <a:srgbClr val="ff0000"/>
                </a:solidFill>
                <a:latin typeface="Geneva"/>
              </a:rPr>
              <a:t>HOMOGENEOUS</a:t>
            </a:r>
            <a:r>
              <a:rPr b="1" lang="en-US" sz="4000" spc="-1" strike="noStrike">
                <a:solidFill>
                  <a:srgbClr val="0000ff"/>
                </a:solidFill>
                <a:latin typeface="Geneva"/>
              </a:rPr>
              <a:t> OR </a:t>
            </a:r>
            <a:r>
              <a:rPr b="1" lang="en-US" sz="4000" spc="-1" strike="noStrike">
                <a:solidFill>
                  <a:srgbClr val="ff0000"/>
                </a:solidFill>
                <a:latin typeface="Geneva"/>
              </a:rPr>
              <a:t>HETEROGENE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mogeneous Mixtur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neva"/>
              </a:rPr>
              <a:t>Homogeneous Mixtu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neva"/>
              </a:rPr>
              <a:t>The prefix: "homo"- indicates the sa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neva"/>
              </a:rPr>
              <a:t>Have the same uniform appearance and composition through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neva"/>
              </a:rPr>
              <a:t>EX.  A pile of pennies, iced tea with sugar (sugar has dissolved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neva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are homogeneous mix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A solution is a mixture of two or more substa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At least two substances must be mixed in order to have a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 solution has two par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3276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The substance in the smallest amount and the one that </a:t>
            </a:r>
            <a:r>
              <a:rPr b="1" lang="en-US" sz="3200" spc="-1" strike="noStrike">
                <a:solidFill>
                  <a:srgbClr val="ff0000"/>
                </a:solidFill>
                <a:latin typeface="Geneva"/>
              </a:rPr>
              <a:t>DISSOLVES</a:t>
            </a: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 is called the </a:t>
            </a:r>
            <a:r>
              <a:rPr b="1" lang="en-US" sz="3200" spc="-1" strike="noStrike">
                <a:solidFill>
                  <a:srgbClr val="ff0000"/>
                </a:solidFill>
                <a:latin typeface="Geneva"/>
              </a:rPr>
              <a:t>SOLU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267080" y="1752480"/>
            <a:ext cx="4572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The substance in the larger amount is called the </a:t>
            </a:r>
            <a:r>
              <a:rPr b="1" lang="en-US" sz="3200" spc="-1" strike="noStrike">
                <a:solidFill>
                  <a:srgbClr val="ff0000"/>
                </a:solidFill>
                <a:latin typeface="Geneva"/>
              </a:rPr>
              <a:t>SOLVENT</a:t>
            </a: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 - it does the dissolving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IN most common instances water is the solvent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0" y="2720880"/>
            <a:ext cx="9144000" cy="1403280"/>
            <a:chOff x="0" y="2720880"/>
            <a:chExt cx="9144000" cy="1403280"/>
          </a:xfrm>
        </p:grpSpPr>
        <p:sp>
          <p:nvSpPr>
            <p:cNvPr id="137" name="Rectangle 9"/>
            <p:cNvSpPr/>
            <p:nvPr/>
          </p:nvSpPr>
          <p:spPr>
            <a:xfrm>
              <a:off x="0" y="2720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0" y="2720880"/>
              <a:ext cx="9144000" cy="14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66"/>
                  </a:solidFill>
                  <a:latin typeface="Times New Roman"/>
                </a:rPr>
                <a:t>  </a:t>
              </a:r>
              <a:r>
                <a:rPr b="0" lang="en-US" sz="8600" spc="-1" strike="noStrike">
                  <a:solidFill>
                    <a:srgbClr val="336666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336666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39" name="Picture 11" descr="pileofsugar"/>
          <p:cNvPicPr/>
          <p:nvPr/>
        </p:nvPicPr>
        <p:blipFill>
          <a:blip r:embed="rId1"/>
          <a:stretch/>
        </p:blipFill>
        <p:spPr>
          <a:xfrm>
            <a:off x="762120" y="5029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C:\Documents and Settings\gbaker\Application Data\Microsoft\Media Catalog\Downloaded Clips\cl0\fd00942_.wmf"/>
          <p:cNvPicPr/>
          <p:nvPr/>
        </p:nvPicPr>
        <p:blipFill>
          <a:blip r:embed="rId2"/>
          <a:stretch/>
        </p:blipFill>
        <p:spPr>
          <a:xfrm rot="19992000">
            <a:off x="7696080" y="4800600"/>
            <a:ext cx="817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s of solu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2971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lt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n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ne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C:\Documents and Settings\gbaker\Application Data\Microsoft\Media Catalog\Downloaded Clips\cla2\j0406452.jpg"/>
          <p:cNvPicPr/>
          <p:nvPr/>
        </p:nvPicPr>
        <p:blipFill>
          <a:blip r:embed="rId1"/>
          <a:stretch/>
        </p:blipFill>
        <p:spPr>
          <a:xfrm>
            <a:off x="4267080" y="2514600"/>
            <a:ext cx="43434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ubstan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Times New Roman"/>
              </a:rPr>
              <a:t>Matter that has the same composition and properties throughout is called a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ubstance</a:t>
            </a:r>
            <a:r>
              <a:rPr b="0" lang="en-US" sz="28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Times New Roman"/>
              </a:rPr>
              <a:t>When different elements combine, other substances are form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Documents and Settings\gbaker\Application Data\Microsoft\Media Catalog\Downloaded Clips\cla1\j0402696.jpg"/>
          <p:cNvPicPr/>
          <p:nvPr/>
        </p:nvPicPr>
        <p:blipFill>
          <a:blip r:embed="rId1"/>
          <a:stretch/>
        </p:blipFill>
        <p:spPr>
          <a:xfrm>
            <a:off x="512640" y="2666880"/>
            <a:ext cx="3392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eneva"/>
              </a:rPr>
              <a:t>Heterogeneous Mixtures</a:t>
            </a:r>
            <a:r>
              <a:rPr b="0" lang="en-US" sz="4400" spc="-1" strike="noStrike">
                <a:solidFill>
                  <a:srgbClr val="0000ff"/>
                </a:solidFill>
                <a:latin typeface="Genev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The prefix: "hetero"- indicates differ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A heterogeneous mixture consists of visibly different substances or pha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Two or more parts can be s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39621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pile of co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x M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C:\Documents and Settings\gbaker\Application Data\Microsoft\Media Catalog\Downloaded Clips\cl56\j0215791.wmf"/>
          <p:cNvPicPr/>
          <p:nvPr/>
        </p:nvPicPr>
        <p:blipFill>
          <a:blip r:embed="rId1"/>
          <a:stretch/>
        </p:blipFill>
        <p:spPr>
          <a:xfrm>
            <a:off x="4114800" y="2514600"/>
            <a:ext cx="42130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How Can We Change Matter Into New Substanc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Chemical reaction (also known as a chemical change) is a change in a substance or substances that results in a totally new sub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Ex:  2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(g) + O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(g) </a:t>
            </a:r>
            <a:r>
              <a:rPr b="0" lang="en-US" sz="32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2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Notice that the reactants (the substances you start with) combine to form a new substance (the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How Do I Know If A Chemical Reaction Has Occurr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560" y="190512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here are 5 indicators of a chemical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volution of a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volution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volution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Col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volution of a preci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recipitate:  an insoluble substance that is produced as result of a chemical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24-07-07_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514600"/>
            <a:ext cx="1298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Why Do Chemical Reactions Occu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2285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Chemical reactions occur to produce a more stable product than the existing react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Structure of a Chemical Equ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5235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A chemical equation tells you the substances you start with in a reaction and the substances you get at 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The substances at the beginning are called the React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When the reaction is complete, you have new substances call th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The number of reactants and products can v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Structure of a Chemical Equ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Reactant + Reactant          Product +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Reactant  +  Reactant    yields    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+   H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Ammonia + Hydrogen Chloride  yiel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               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Ammonium Chlo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Straight Arrow Connector 5"/>
          <p:cNvCxnSpPr/>
          <p:nvPr/>
        </p:nvCxnSpPr>
        <p:spPr>
          <a:xfrm>
            <a:off x="4267080" y="205740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Straight Arrow Connector 6"/>
          <p:cNvCxnSpPr/>
          <p:nvPr/>
        </p:nvCxnSpPr>
        <p:spPr>
          <a:xfrm>
            <a:off x="4572000" y="3886200"/>
            <a:ext cx="1448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Structure of a Chemical Equ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Reactant          Product +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Reactant    yields     Product + 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O  + 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Calcium Carbonate (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heated Limestone- 1,517</a:t>
            </a:r>
            <a:r>
              <a:rPr b="0" lang="en-US" sz="4000" spc="-1" strike="noStrike" baseline="30000">
                <a:solidFill>
                  <a:srgbClr val="7030a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F) yields  Calcium Oxide   + Carbon Diox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Straight Arrow Connector 5"/>
          <p:cNvCxnSpPr/>
          <p:nvPr/>
        </p:nvCxnSpPr>
        <p:spPr>
          <a:xfrm>
            <a:off x="3352680" y="205740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6"/>
          <p:cNvCxnSpPr/>
          <p:nvPr/>
        </p:nvCxnSpPr>
        <p:spPr>
          <a:xfrm>
            <a:off x="3200400" y="3886200"/>
            <a:ext cx="1448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Verdana"/>
              </a:rPr>
              <a:t>Where Does The Matter Go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It is important to understand that when matter undergoes a chemical reaction (ie a chemical change) it does not disappear or app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The atoms are rearranged and form new bonds, but no matter is lost nor g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This is called the Law of Conservation of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s vs Mixtur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990720" y="2590920"/>
            <a:ext cx="3504960" cy="32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5105520" y="2590920"/>
            <a:ext cx="3504960" cy="32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678680" y="20574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021360" y="18288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600200" y="2895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chemically forming molecu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715000" y="2819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chemically combine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21932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in set proporti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71500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ombine in any propor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523880" y="4419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d chemicall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715000" y="441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d physicall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ubstan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only one part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exist in 3 states of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be elements or com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http://www.ilpi.com/msds/ref/gifs/statesofmatter.gif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319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3520" y="5181480"/>
            <a:ext cx="350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ilpi.com/msds/ref/gifs/statesofmatter.gif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276720" y="685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Classifying Matt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743200" y="1600200"/>
            <a:ext cx="3200400" cy="3682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Matt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62120" y="2590920"/>
            <a:ext cx="2666880" cy="368280"/>
          </a:xfrm>
          <a:prstGeom prst="rect">
            <a:avLst/>
          </a:prstGeom>
          <a:noFill/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ure Substanc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410080" y="2590920"/>
            <a:ext cx="2743200" cy="368280"/>
          </a:xfrm>
          <a:prstGeom prst="rect">
            <a:avLst/>
          </a:prstGeom>
          <a:noFill/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Mixtu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80880" y="3581280"/>
            <a:ext cx="1676520" cy="42912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Element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209680" y="3581280"/>
            <a:ext cx="1905120" cy="42912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Compound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343400" y="3581280"/>
            <a:ext cx="2362320" cy="39888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Homogeneou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6781680" y="3581280"/>
            <a:ext cx="2362320" cy="39888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Heterogeneou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09480" y="4648320"/>
            <a:ext cx="685800" cy="785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F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666880" y="4648320"/>
            <a:ext cx="914400" cy="860400"/>
          </a:xfrm>
          <a:prstGeom prst="rect">
            <a:avLst/>
          </a:prstGeom>
          <a:noFill/>
          <a:ln cap="sq"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724280" y="4648320"/>
            <a:ext cx="914400" cy="785520"/>
          </a:xfrm>
          <a:prstGeom prst="rect">
            <a:avLst/>
          </a:prstGeom>
          <a:noFill/>
          <a:ln cap="sq"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te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6781680" y="4648320"/>
            <a:ext cx="1981440" cy="1008720"/>
          </a:xfrm>
          <a:prstGeom prst="rect">
            <a:avLst/>
          </a:prstGeom>
          <a:noFill/>
          <a:ln cap="sq"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Rocky Road ice cream, muddy water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 flipH="1">
            <a:off x="2819520" y="2057400"/>
            <a:ext cx="457200" cy="30492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5257800" y="2057400"/>
            <a:ext cx="762120" cy="45720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H="1">
            <a:off x="1066680" y="3200400"/>
            <a:ext cx="457200" cy="30492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2666880" y="3124080"/>
            <a:ext cx="457200" cy="45720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7391520" y="2971800"/>
            <a:ext cx="380880" cy="53352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7818480" y="4038480"/>
            <a:ext cx="46080" cy="60984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2971800" y="4114800"/>
            <a:ext cx="380880" cy="45720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914040" y="4114800"/>
            <a:ext cx="304920" cy="38088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029200" y="4191120"/>
            <a:ext cx="457200" cy="30456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6"/>
          <p:cNvSpPr/>
          <p:nvPr/>
        </p:nvSpPr>
        <p:spPr>
          <a:xfrm flipH="1">
            <a:off x="5486400" y="3200400"/>
            <a:ext cx="457200" cy="30492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Pure Substance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85800" y="213372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re substance is a classification of matter that includes both elements and compounds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 substances cannot be separated by physical means such as distillation, filtration, or chromatography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62160" y="19047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de of molecules and molecules are the smallest particle of a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properties that are different from the elements that make them u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es made up of 2 or more atoms chemically bond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Water, salt,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im48"/>
          <p:cNvPicPr/>
          <p:nvPr/>
        </p:nvPicPr>
        <p:blipFill>
          <a:blip r:embed="rId1"/>
          <a:stretch/>
        </p:blipFill>
        <p:spPr>
          <a:xfrm>
            <a:off x="685800" y="380880"/>
            <a:ext cx="3008160" cy="3353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09480" y="388620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tance whose smallest unit is made up of atoms of more than one pure element bonded together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1640" y="190512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O is the chemical formula for water, and H</a:t>
            </a:r>
            <a:r>
              <a:rPr b="0" lang="en-US" sz="32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 is the formula for hydrogen perox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The formula tells you which elements make up a compound as well as how many atoms of each element are pres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ounds Have Formu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im49"/>
          <p:cNvPicPr/>
          <p:nvPr/>
        </p:nvPicPr>
        <p:blipFill>
          <a:blip r:embed="rId1"/>
          <a:stretch/>
        </p:blipFill>
        <p:spPr>
          <a:xfrm>
            <a:off x="609480" y="2743200"/>
            <a:ext cx="3886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w to read a formul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im50"/>
          <p:cNvPicPr/>
          <p:nvPr/>
        </p:nvPicPr>
        <p:blipFill>
          <a:blip r:embed="rId1"/>
          <a:stretch/>
        </p:blipFill>
        <p:spPr>
          <a:xfrm>
            <a:off x="1143000" y="3962520"/>
            <a:ext cx="2325600" cy="2590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685800" y="1828800"/>
            <a:ext cx="30481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6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6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 flipV="1">
            <a:off x="2438280" y="2819160"/>
            <a:ext cx="1447920" cy="685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886200" y="2819520"/>
            <a:ext cx="50292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Verdana"/>
              </a:rPr>
              <a:t>This is a subscript. It tells us how many atoms of that element exist in one unit of that compound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Verdana"/>
              </a:rPr>
              <a:t>Water is made of 2 H atoms and 1 O atom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Verdana"/>
              </a:rPr>
              <a:t>No subscript is used when only one atom of an element is present.</a:t>
            </a: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Carbon, Hydrogen, Oxy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 Carbon atoms + 22 Hydrogen atoms + 12 Oxygen atoms = 1 molecule of su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Straight Arrow Connector 4"/>
          <p:cNvCxnSpPr/>
          <p:nvPr/>
        </p:nvCxnSpPr>
        <p:spPr>
          <a:xfrm>
            <a:off x="1752120" y="2209320"/>
            <a:ext cx="7628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Hydrogen, Oxy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dium, Chlori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a         C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         Hydrogen,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040" y="3657600"/>
            <a:ext cx="7628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6"/>
          <p:cNvCxnSpPr/>
          <p:nvPr/>
        </p:nvCxnSpPr>
        <p:spPr>
          <a:xfrm>
            <a:off x="4343040" y="5105520"/>
            <a:ext cx="7628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7"/>
          <p:cNvCxnSpPr/>
          <p:nvPr/>
        </p:nvCxnSpPr>
        <p:spPr>
          <a:xfrm>
            <a:off x="2133720" y="2209320"/>
            <a:ext cx="762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4:25:35Z</dcterms:created>
  <dc:creator>Casa Grande</dc:creator>
  <dc:description/>
  <dc:language>en-US</dc:language>
  <cp:lastModifiedBy>jcameron</cp:lastModifiedBy>
  <dcterms:modified xsi:type="dcterms:W3CDTF">2013-04-11T14:59:16Z</dcterms:modified>
  <cp:revision>92</cp:revision>
  <dc:subject/>
  <dc:title>Substances, Compounds &amp; Mixtu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